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dt" idx="9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sldImg"/>
          </p:nvPr>
        </p:nvSpPr>
        <p:spPr>
          <a:xfrm>
            <a:off x="1003320" y="1243080"/>
            <a:ext cx="48513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body"/>
          </p:nvPr>
        </p:nvSpPr>
        <p:spPr>
          <a:xfrm>
            <a:off x="685800" y="4786200"/>
            <a:ext cx="5486400" cy="3918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ftr" idx="95"/>
          </p:nvPr>
        </p:nvSpPr>
        <p:spPr>
          <a:xfrm>
            <a:off x="-360" y="94467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 type="sldNum" idx="96"/>
          </p:nvPr>
        </p:nvSpPr>
        <p:spPr>
          <a:xfrm>
            <a:off x="3884400" y="94467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B5B-2528-4A5D-8E55-59AB671D1B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003320" y="1243080"/>
            <a:ext cx="4851360" cy="33573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786200"/>
            <a:ext cx="548640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Номер слайда 3"/>
          <p:cNvSpPr/>
          <p:nvPr/>
        </p:nvSpPr>
        <p:spPr>
          <a:xfrm>
            <a:off x="3884760" y="944712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536-AA32-4C4A-9381-D34481A72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A88-848E-41FE-A0CE-308F6B8E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1FE-AD49-48DC-9D17-425A84C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DB5A6-D800-44D9-B2A5-C9026D7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3B74F-6396-4116-A8FC-D829A9B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1D09-8BA8-4630-B396-DBA35D05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9A709-1297-429E-9E3E-DED2465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CE298-30E6-48C0-A9BE-41C0875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50986-B2A0-4222-8F72-6AFB29B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03A32-5F69-42E7-997F-4E5332D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5E5A0-2C3C-4972-9C7E-0C728F82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9027B-71F6-416A-ADF2-EE4DC93A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38CFC-FA59-48EF-A9F9-E7EE2780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373-EC15-488D-9432-C9D0C52D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615A1-CB7A-4130-B446-03B4724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FDD55-FE3E-44CB-908D-E7A198EE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DD550-D408-45AD-8509-824CA41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431EA-599D-4A11-890A-7F5562AE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580F9-B874-45CD-812F-CD10E1F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419C5-7F90-4E2D-9DEA-AB29D6C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49482-44C9-4A10-87A5-CA269D0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30464-ABCB-4060-9F78-93870B9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B3120-94C5-4267-ACAA-0B13DB5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EA19A-8C49-4B48-AE65-5818F848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254-8454-4A7C-9636-BEB76CAE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94C25-7E48-4122-8213-B78BFCB1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BC60-4C33-412A-9CB0-E1DC7920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A35B9-0CC7-42A2-AE6E-6E4763ED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640F6-ECFC-4490-9267-EAD6E182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B4DC0-2284-421A-B80D-0641A2C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C4E6-AE95-4AEE-A602-B966917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A4E15-1363-4A88-9A7E-7532238E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7176A-D965-40D2-A6B7-190B147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F586E-A4B5-433D-AAC4-F08192F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C90FB-2D9F-42E2-A791-FA3D6E3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98D1-04D7-46F7-878C-A2C30F34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A271D-19AC-4FBD-9029-49698EF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CAF65-7118-466E-A724-E4FAD6DB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FBBFF-5393-4409-9E45-D5229CCE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C3926-4E78-4569-A790-6534BEE9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C9C5B-C706-4D09-90E6-FDC018B9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392E1-25C1-4025-8952-D0CA2F07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764B8-9DD2-4047-B5DE-2B57BAE9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62326-990E-4857-974A-51D429D6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86116-E003-48B9-8D1B-229FCAB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7A3F-1413-4F72-95A3-A7198DB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D3AA-F525-4282-A21B-39B8AA71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968AA-27B6-49CE-984D-AC681FB2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B0D46-DA04-454F-B7EC-434BCFB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8D721-AAD1-4A9C-8BBB-1941CCD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E6BEF-DA5B-4554-B330-F0D0CCFB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A80BC-BE3E-4FB2-814A-2BB6B4DF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984C9-553D-4611-B863-D77E3AD8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5CD04-76AE-49DC-A3DA-779021AC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B8D5F-7E5A-40A4-9E79-5D124278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A6E05-C1EC-4829-B728-2753DB38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BE43B-3FB1-41D5-AB40-B72195D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FA58-DBEA-4ECB-887C-18E159D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1AEA6-5F1A-4DD5-B106-8BF3EB9B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77D1D-B640-487F-9B88-AEB497B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FBBA2-B33C-4946-B58F-9D44A62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6924C-4986-48F2-869B-1AE0089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15A06-8191-400D-8C57-315E568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75E40-9F7A-4E4F-9FDA-7B64F142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CF911-57E8-4428-A3E9-A6BCA5A4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30066-3A34-4FD2-8E18-95FDE5E8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8560C-5F13-4A13-8A03-0A7B043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DDDD7-572E-4D64-81B8-9F77847C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F08F-767E-455C-9C7A-E63362BC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8C00C-117B-4BF0-AE08-CBF16D22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6F561-800F-49E2-89DB-133FD1FB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29203-2D9E-465C-8B7E-40442D80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A0ED9-45F8-431F-BB63-DECB721D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F1C33-D14F-40E0-AFF5-58E0F9F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D93D1-D614-4CE1-BA64-5077ACD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AF4B6-D13E-4FBB-8A3F-9E1AA982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B022B-6C33-4730-B8E9-5242D61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CB263-5CA2-45EF-BF70-0469B785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EE443-AE05-49B4-B10D-709DF980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1397-FE35-45DD-9574-C04AAF77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348FC-3AA3-416D-8751-FFB97052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C69B8-1E58-4A64-A5B9-F6AA81F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87F2C-E9DA-4DB1-905A-A25DC74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F8530-049E-47AB-9520-09370BA4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22CD9-8263-4AE4-98F3-AC17E7E9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9BD15-6CAD-417D-BD8D-001ED591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3AE55-EF61-4748-A034-C321AFCE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0E0C8-437A-4EB0-B5D9-4D69D7D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907BA-4706-49FD-974E-8CD6EFDB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C294C-0D1A-42DA-9267-32EF976B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BA8-3F8B-4DF8-AF48-172272E0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D910F-DDEE-43A4-BDA8-F23443EB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AB9DD-C897-4506-8A26-7A1D54DA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9ABBB-9F4D-4C2C-9C5F-CA45139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AE78B-951F-4956-89E6-337F2AC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8D027-0EC2-4C85-8245-6165CF99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94BD6-DB1B-46D7-9F70-E2F4C50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54AA0-3B01-41B2-9EEC-C6A6164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EFC21-EA4E-4921-B192-1C7D22A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30528-4A3C-47E9-9F0B-AFE0310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36105-49DA-470F-9CB4-635AB591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F185-F7E0-42CE-A7C2-4AE4E69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E796B-9CCF-44E8-A26A-6079C97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28072-E21C-40BA-B542-03718A7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D3D6A-1C2E-4BBC-A318-1469CD82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4E5A0-48DB-42B7-BF41-6A76BFA0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6A0B0-EF89-42F1-B7CD-10C91F9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F0163-8856-498D-BBAE-5C71C28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33A34-5528-4AAA-8381-2190DFC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8AFA9-4549-47D5-BC64-4AECAFB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98ECB-9497-4D58-81BD-6C40FCA7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E586D-920C-41D7-A069-7A4DD02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385-82EA-4A58-8904-04551ED2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97FC-7504-4445-961B-AA96F3F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014B6-581B-4EB7-83E6-7191B78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0E22F-5A05-4CAC-B74A-154288A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2D2E5-9B77-4E7C-B528-8A43399E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D4428-14EE-46E0-B6C1-AABB3B23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F46C2-7C22-452B-8068-1E74D3CB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1F2CF-7248-4712-A4C7-84BFFC5E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27EDA-5871-4A0E-BA9E-7902D67B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DA6B2-2B7A-4E14-89A0-E2FC068D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CB8AD-09BE-4FB0-AF45-4F6269C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E9DE00-E5A5-4E80-AF6B-15821B3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4C6C-43EB-4B78-9EB7-B085377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5EA95-7478-470B-BBEB-831B00CA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F3904-D1B4-489F-A1CB-0715F2B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19168-1E60-4125-AA6C-7797398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00665-6B90-44E2-BAF4-CBDD6E0E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C66E9-6437-4A35-99F4-FD25C94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42C48-081C-4D41-A745-45D1028E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75AE7-942A-4874-9F74-7EFEB683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B4F8D-896A-4D2E-82C4-2325C13A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0CFEE-DC05-485C-874A-F76916D6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D9875-0F0D-4551-99FE-9CC328D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E46-0B28-46D7-9450-08BACAAE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6B1F3-A767-4A70-B837-0AC40417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3FD8F-CD17-4B15-BCD6-1C32FFEF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BF34D-A3AC-42E5-8469-C68B101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410C6-EB17-4280-BE03-FF3B503F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0C58EA-C912-4BBC-AA4C-9B84319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5AE85-3FCB-4493-A82F-F312CC9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6111B-87F0-4D7D-9E86-522429B9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8E3810-D013-4601-93F6-374F144C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80549-4D47-42E2-9363-4381A08C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C3A12-DB85-40D7-A156-1DA06A20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E0A4-D0D1-4A21-AC98-7D9FD213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ACF29-2D6E-4A2D-B26C-EEE9D50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ECDEE8-6CC7-441C-8841-4E099BB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571EB-A414-475D-9624-6A01916E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8E87C-F0FD-4838-AC1B-AAAB1C74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F9077-59F6-4B73-B05E-87307B8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9D168-34E5-4555-B621-E64195F2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F7568-B16F-4E6D-B5EF-3448DC9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5DCF8-2F4C-4A99-9429-337EB42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BB28E-ED17-45A7-950C-2828A52E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2FD21-6880-43A0-AEA2-9A884CF0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2D2E-CFA2-4301-8A36-8E5E2C2D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D5EC2-0904-4C66-8177-D73E7948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32A0F-A8E2-4F5D-AEF8-8F0D13FE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5CCD0-65FA-43E9-A108-6C784D64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05077-3730-43EF-B6AC-DEB00231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62244-FEA0-44A0-88EA-1118C8E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25DBA-2783-4B00-89F0-54388C93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C456A-626F-47BA-9927-4A89049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BD2FFC-08DA-433B-AB3F-E0CF5AF1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785C0-9360-42D8-94EC-C917191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B674C6-69E5-4880-889B-957219B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046F-39F2-48E3-A0D8-410C21D0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58FF2-ADD5-4E5A-A2F9-BA1C91E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0350B-8765-4EB0-A9CB-E5E6596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FAC17-FCBD-4A95-AA13-9A8863F2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CE8D3C-D896-4BC6-81AC-F1A879A3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AC4FF-174D-4E51-9622-B1DE260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DCB51-AA80-4117-AA8E-8FC6CE3B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5766C-1293-4AD7-8CE1-A7EAB174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3DD755-E8EF-4618-9F44-D8E4282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F9D82-870D-4F9D-9A8B-3BE3824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5C1FBE-5060-48B0-96D0-CD16AA75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62B1-6DCF-4C04-AB42-9553AFE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A3878-81FF-4C93-B0E0-2C34EBD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3F727-CE8B-4158-A32F-500D9D0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5258E-FA79-4D51-8FD2-C2D2EFA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600AD7-F076-4CF3-8496-2399849F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6B6FF-6BBD-4657-A47F-423480E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399807-6569-44EA-8844-BE6BF4DE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D6139-5B35-46C2-AB26-EA2EFA7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1C0EF-82D8-4E64-987C-BBDAE8F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14AA9-A5E3-4F07-84D3-FD9A575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FE9B6D-CCA7-4774-BD2A-3570F73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5627-9647-4C88-9B08-B10E119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57C62D-7B7B-4DDB-B1B8-EA29CBC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DA5919-51B4-45DA-B951-131B953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FF1F5-574E-4B33-9E1F-DED987B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5DE5A4-39EF-4D89-99AE-1FCA1E4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738A3E-0CA6-4940-A1DE-C112604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3BD975-F02A-4C50-B4CC-85E63404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2B4BC-7FE8-4279-8D68-88D2CD9F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2E874D-2DCD-4092-8D04-7817DC1C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F69E18-D9D3-497A-A775-612466A3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84260-31FC-4D99-9006-B79893B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63BA-43BB-4F4E-B1E6-6066DB09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6F67AF-C33A-4737-A0E1-5DD3202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83EAB-39B7-49F9-8BD1-8B9664B4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1DC16-E8E0-4D34-8200-7099CDFA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5CCD19-B3EA-422C-BDE0-7D0707B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FC7DED-4903-4346-A42B-09A1306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31D8BF-D2E2-4576-A492-17CA38C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D3640-2A81-4AE2-833D-DAD43C9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C3681-6D07-44E7-8DB0-92381597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8662B9-7361-4ED2-8669-9C06B207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519AB-0379-4943-9E9D-0A04F4BE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A651-6B93-48A7-BE8E-59C2E219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0BE705-6F77-4B2B-97EA-34BDAF22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5C277E-3621-4010-8907-40C0B3C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693322-BD5B-4EF9-BBC3-7FD0932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B4A0C8-1668-4881-9AA9-D21A74E7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D685F0-923B-435D-B559-C2657E0F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6C46E9-4B7C-4A3C-A9B5-6B99CD4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8647F8-5852-4851-B78E-04E02EEF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31838D-EDE2-4AEA-87A9-DB36854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B5B265-E7F3-4723-AFA4-DF13EFFF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1B224-B093-404C-8F5C-ED8B4E8B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1A8-8215-4381-B2E6-F44CF32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4E2EB-968C-494C-911B-E93714D2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421E8A-6AEC-4AC6-A7D0-C6761D9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09B70E-9586-4978-8980-7C79E3B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A56A8F-EBB2-4575-A5E2-956A199B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90B8A9-4551-4770-911C-F077F085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41E569-6F03-4636-B66D-0079671C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90E0B4-69E6-4AC4-A21D-E2F67E2E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ACB01B-F5B6-48F9-88CE-C329112A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B98C3C-AE0C-466C-BC93-366FB1D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9A7C72-E5B8-48E5-A2BB-1A1B0AE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045030-81A7-44AD-879F-C18C506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3BC5-E057-480D-9586-9E0CB048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4479F6-9493-4B03-A4D9-4001545E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58754A-3E26-435E-AC4A-FD42A3FA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E86204-26A3-43CD-9799-C8E73FC7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3866C7-2C08-4CC8-AA1D-BC9A6D9D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A0F081-585F-4097-AEC3-8F186B17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6EAB57-245E-475F-B465-E365669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F8EBE-A83C-4CFE-9793-B0FFC9AB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B52E93-19BB-4F1B-9ED7-E849BD82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182B3C-5DCA-40C6-92A9-BF1653AC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C239EE-B47D-45DF-9FF1-8F57CC16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D632-809C-415B-A7DC-302A9DA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C23B51-B8BF-4299-8D03-194EAB7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D5F20B-2CC0-4872-B500-90591DD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842C24-0D7B-42DE-9660-2CB569F3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1D69FE-EDA0-435E-AAED-8814EEF7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BD3680-EA6C-4BE5-89A7-D2039FE2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6CBAC6-4231-4B6D-8155-F2D9A935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11C9A3-CE43-40DF-AF0C-0F2D97B3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44713C-DE1E-490B-B2F7-42CD520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30712A-8685-420C-BBBC-CECD987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B4D142-D13D-49EB-8A0E-0C091720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449D-D502-4E55-A59D-FCC141C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53A0D8-7886-40AC-BD80-50EBAF7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D38FBA-0734-455E-94D1-4413DD4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BE3C7A-CC74-4400-9DEE-EFE6394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E40266-946D-4C35-B68F-03C12F37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B73C2B-A5C6-4A55-A57F-A472C6F7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FE02E0-DD02-45D5-8D36-BD3EEF78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2B0B39-B0CE-4455-8CAE-5CE7D437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E6E962-1394-4D78-A75D-5A74C7AC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D65CC8-2558-480C-8ADC-EB9F3AB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4303CD-C65B-45E1-9F3F-29B9F081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C69A-7C11-4665-AF22-2D06B317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9B288A-E0BE-41BA-A809-A0662729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F95A6D-7E2A-4222-9432-28DC0CA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8A8A22-3BFB-49DC-91EB-F20E0599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440142-4CB3-4A42-98E7-EBAE8A2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F8356C-5DC2-4424-8877-F5F0AD0C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53E448-D474-4805-BE30-55CBB86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EBA531-C95D-4ACE-8A9E-EDA7D912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5F31FC-1B3F-4F59-9A5A-1D544293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B87642-C2AF-4340-991D-8CC65FD6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4E6C39-613F-4227-9AA9-98224FB4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FB83-47F6-4585-80AB-E7EBEE93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9E9B0E-1145-474A-92B0-5B3AC66E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BCC6E1-BEBE-4543-A825-1E9A2363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C749C6-6EF1-4541-803A-38829626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9EEDC4-6B94-4DB9-85C1-E1C2644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B5FB7C-83C7-42FC-A87D-29681F0D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AF27D3-8126-45B9-BCFA-A16E1A4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7C579F-C2C8-4EDE-8EE2-3EDC16BE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1D1878-7C88-47D5-B781-6D82833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404EC0-1D25-47C0-B5CB-04113300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5A6119-B760-491F-8B5A-53C3740F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2260-BB8F-47C7-8AC8-E5B0499C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8DE07B-FFFD-4F01-8DF3-D74D0DD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0B6F00-C2F4-44A7-8BDB-C15ED1B8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DCA09B-F6E5-4176-B854-F882A44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8E6663-CFD8-484D-B02E-F01F9E10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D8736-646F-4F34-9993-1E865D2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3AEE5D-AA83-4746-9A5F-37C7F562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8C81A9-9488-4DF1-AE7F-2A244AC0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410028-A538-47E7-99CE-9922F52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2B5AE9-01D9-4AE9-97D4-1AF1CA5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95AC40-91AD-48E9-A039-41C05FC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39E9-E469-41CE-BE7D-C26E2E2A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79E57-E789-4AF2-A0FF-5A243FB7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7B600A-1A3D-4A14-B17D-BEE334A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540275-9F23-4315-A453-CED5A5C8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D187-1115-40D9-BE58-0BCEFD7D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D6FA-8510-4E06-995D-F389077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4D6-00C1-4DA4-AE89-82E5035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9FCD-36C6-4680-AF7C-E7686C85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4A59-E703-4D52-A02A-1460E32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AFCA-EC0E-4AF1-97B0-FFB42472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CA43-C486-4DA9-8FE9-2153CE5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9E24-F5A3-4FAB-BE01-682944C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E812-0BCF-4077-BE32-0EA5F60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726D-DAC0-489B-B596-81F64F8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AC8A-64E9-4EC8-9E37-2209CA50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8A96-6880-4507-8613-B922A7D8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0EEA9-4CE0-4441-9624-FA917253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211-C6F0-423A-9CD3-7AA28D1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20B2-53E2-44E7-99BC-F3B74982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55B6-BEFE-437F-8601-7196E69D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38CAF-6BED-40ED-9E8A-85256323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52E1-0C7E-44F1-BDA4-147DBA5C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193B-9F8F-4A89-9F0E-C2EA9299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575D-FCF4-43C8-9EA6-62A19976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B217-0166-49B0-8BB8-67365387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A5A8D-C183-453B-B3E2-822486D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A8ACB-612C-495A-8A5A-A0B2768F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E37C6-EB7A-42CB-A7DC-2C0E0C3A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E0A-FA88-41F4-902F-7B8D809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2004-C87D-44C9-A63C-AC55859A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89926-B79A-4228-A98F-1811FADE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EEA15-C337-4E4D-973C-9BD67AFE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E521-70CB-4962-9204-96CF9E84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529F-C5CC-466D-80AC-6FC6ED42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1DEA-465E-4145-A990-B7BC8BB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B8EF-6F6A-4EF2-9059-45E11C9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262E-ECCB-40BC-B346-CABE7835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EC383-74E0-46C1-8CE6-9461142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D2263-6640-44D4-8E2E-6CD7524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20B-5369-44F3-8A29-542E73B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9061-BB2D-4AC4-93D0-8ADBAC8A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A4A3-432E-4ACF-B774-06DBB900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E1AE-BC3F-4EE9-A288-3EACEB80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427B6-259C-4E75-AB18-02B5D276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0DF42-DD65-404A-B7FC-E58006A5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BAF6-2865-4FDE-AD8F-669B468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034A-9033-4061-A28B-5C58D8C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646C-DA36-4327-905B-D34D7DC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D6529-BD8D-47F8-9227-F450934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6001-5E46-44CC-BC10-EF91573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C82-CE46-4E4B-819F-5C0BC356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BCB1A-A9D4-4B7E-8282-70030C3E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AFE2-DB1E-42FB-A558-5F95D7C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28F6-26BC-4924-BCE4-C0F4214C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85C7F-1166-47C0-A91E-EA4D6E62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378B0-D0F1-46B0-A2F2-CA031A90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5E9F3-63E1-4578-A48C-857CF8F7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A9439-83C4-4E2C-B69D-10A7E32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C48C-4629-4E69-9C3E-C1E7777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3C5A-4558-4B0E-901E-7033F32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2C37-7A58-4BFF-9214-F6CE05CF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14D-FFB5-438C-A9C6-C224004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7680" y="182160"/>
            <a:ext cx="4457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9E28D-8F31-4F8A-9413-71176735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5B8E-FAFE-4EC4-87A2-8438CD2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ADA0-B27C-4385-A196-98833FD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54AA-F636-47F2-B950-524AC12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7680" y="2642760"/>
            <a:ext cx="44575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73B1-54F8-4778-AEB9-14CC015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531880" y="106632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76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531880" y="2642760"/>
            <a:ext cx="217512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EC50-8568-4835-AC8C-D8F1B814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75464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261960" y="106632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768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75464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261960" y="2642760"/>
            <a:ext cx="1434960" cy="14392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93A87-D5EA-4CF6-B3C3-843B5272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9B98E-686C-4081-BCA2-AFC68E30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DAAFC-4FCE-4DC9-88B8-34B8AEB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FD14E-7CCE-4E6B-B9BF-F0B8FD7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-18432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2700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9852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361D-981B-4245-9FF9-002C26CBAB5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2AE-6556-4AF8-BB24-67AB6DF3D4D2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64A-772F-4F5A-B7BA-78F8F756C81C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508-941C-4E49-B296-099AB2FA3674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007-354C-44E2-8D8D-C15C214E93F7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DD5B-6C3B-4443-8662-80635A07E771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1B8B-A3BC-4CB8-ACCD-E4B741A7BAEF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529F-1E48-4159-B43E-F9D532660CC2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321-0649-4F1A-9EAA-586FFCDD7982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A27-8EBC-4C14-A128-E0EAB02BD219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282B-107E-409E-8780-A614DAB8CBAD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8E8B-1D35-4995-974E-0C7CE9EF6CF5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B1E3-2FEF-4721-BBD5-1785AC14A50D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321-0F7D-41DA-8979-800493988C7A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A9AB-0972-450E-83CC-C0C6A7B66D38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5040"/>
            <a:ext cx="8544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7240" y="1828440"/>
            <a:ext cx="8544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4320" indent="-18432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2700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9852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70040" indent="-18396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2360" y="6356520"/>
            <a:ext cx="2229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770-F58C-41A3-BFE3-E3E54C81E33D}" type="slidenum">
              <a:rPr b="0" lang="ru-RU" sz="8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924-1A49-4D32-858E-AFE4B331C526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72E-5BB0-4370-89FA-D5A3A62601AB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EDF-9977-421A-ACA6-3658CFE6908C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BCF4-50AD-4C64-BCAB-322943911762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Google Shape;163;p20"/>
          <p:cNvSpPr/>
          <p:nvPr/>
        </p:nvSpPr>
        <p:spPr>
          <a:xfrm>
            <a:off x="0" y="249120"/>
            <a:ext cx="2043000" cy="542880"/>
          </a:xfrm>
          <a:prstGeom prst="roundRect">
            <a:avLst>
              <a:gd name="adj" fmla="val 0"/>
            </a:avLst>
          </a:prstGeom>
          <a:solidFill>
            <a:srgbClr val="0070c0"/>
          </a:solidFill>
          <a:ln w="9360">
            <a:solidFill>
              <a:srgbClr val="1c6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EDU.K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EE2A-6709-46BB-AA14-7BD462D86DCB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4C1C-068E-443A-868A-09984ED2B605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ACF3-64C1-4BA8-87F1-57E564572460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C2E-4DD0-471C-9E32-F579A0DC41DF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CF6-7D78-49D4-8DEA-E942A5AFA2C5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715-3BFE-4F60-B0C7-B824802470E7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F019-225D-46C5-82F8-64AD31A178C2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675-8CCB-4D59-B28E-8E3A0C541E31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7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EA9-FC6E-443D-BFAF-2EA6BB4E9451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7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7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CA7-2B8E-4B92-A1EA-049212829B93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9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A4A0-591E-429E-8E3A-1C256C2D10CE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B0BB-9D3C-4B95-BB0A-64CF20600581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3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8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3CF-E646-4DD6-AD2B-3293CB7D84B1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E4BE-C34F-4AEA-84FC-30D192F82F3C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57" name="Рисунок 8" descr=""/>
          <p:cNvPicPr/>
          <p:nvPr/>
        </p:nvPicPr>
        <p:blipFill>
          <a:blip r:embed="rId2"/>
          <a:srcRect l="12500" t="13111" r="12052" b="11446"/>
          <a:stretch/>
        </p:blipFill>
        <p:spPr>
          <a:xfrm>
            <a:off x="312840" y="217440"/>
            <a:ext cx="849240" cy="1044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8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B5E-25E5-451E-936A-60004BF72443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8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8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2F9E-0D62-42E6-900B-DF1FC058A5BC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D7B792D6-DA59-45A2-8A49-EB5F8EF779CB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1" name="Рисунок 8" descr=""/>
          <p:cNvPicPr/>
          <p:nvPr/>
        </p:nvPicPr>
        <p:blipFill>
          <a:blip r:embed="rId2"/>
          <a:srcRect l="12500" t="13111" r="12052" b="11446"/>
          <a:stretch/>
        </p:blipFill>
        <p:spPr>
          <a:xfrm>
            <a:off x="312840" y="217440"/>
            <a:ext cx="849240" cy="1044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8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C07F-A248-45C3-9A4E-226F502FABB0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8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9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6C33-3513-4D0E-B591-E5B43092ADD9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Прямоугольник 6"/>
          <p:cNvSpPr/>
          <p:nvPr/>
        </p:nvSpPr>
        <p:spPr>
          <a:xfrm>
            <a:off x="681120" y="298440"/>
            <a:ext cx="9225000" cy="963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Овал 7"/>
          <p:cNvSpPr/>
          <p:nvPr/>
        </p:nvSpPr>
        <p:spPr>
          <a:xfrm>
            <a:off x="171360" y="103320"/>
            <a:ext cx="1162080" cy="135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45" name="Рисунок 8" descr=""/>
          <p:cNvPicPr/>
          <p:nvPr/>
        </p:nvPicPr>
        <p:blipFill>
          <a:blip r:embed="rId2"/>
          <a:stretch/>
        </p:blipFill>
        <p:spPr>
          <a:xfrm>
            <a:off x="109440" y="-9360"/>
            <a:ext cx="1285920" cy="15811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9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4C9C-C3C4-40A7-B1C4-C0623DA58BC3}" type="datetime">
              <a:rPr b="0" lang="ru-RU" sz="1200" spc="-1" strike="noStrike">
                <a:solidFill>
                  <a:srgbClr val="898989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9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C9A-8F26-49F3-AE58-821584F5BE93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8D61-C258-4BB7-ADD0-08DAD26F8D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44EA-6EFF-4D1B-B2BF-D3129774C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9D6B-917A-4E60-BA65-75F71A419341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12AC-A776-4117-9523-FA1810ADDBFB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4BB5-A0FA-4782-9922-3C016A099893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DB3-31CE-4197-8BAD-C1166C15DAA2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7680" y="182160"/>
            <a:ext cx="4457520" cy="7621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47680" y="1066320"/>
            <a:ext cx="4457520" cy="3017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t">
            <a:normAutofit/>
          </a:bodyPr>
          <a:p>
            <a:pPr marL="200160" indent="-200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4880" indent="-166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69960" indent="-1335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38160" indent="-133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06360" indent="-1332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4768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692000" y="4236840"/>
            <a:ext cx="156852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3549600" y="4236840"/>
            <a:ext cx="1155600" cy="244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6640" bIns="26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2273-782A-4DC0-B20B-41387A6538B9}" type="slidenum">
              <a:rPr b="0" lang="en-US" sz="7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Прямоугольник 1"/>
          <p:cNvSpPr/>
          <p:nvPr/>
        </p:nvSpPr>
        <p:spPr>
          <a:xfrm>
            <a:off x="0" y="2217600"/>
            <a:ext cx="9906120" cy="2322720"/>
          </a:xfrm>
          <a:prstGeom prst="rect">
            <a:avLst/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Прямоугольник 7"/>
          <p:cNvSpPr/>
          <p:nvPr/>
        </p:nvSpPr>
        <p:spPr>
          <a:xfrm>
            <a:off x="344520" y="311040"/>
            <a:ext cx="9209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Rectangle 6"/>
          <p:cNvSpPr/>
          <p:nvPr/>
        </p:nvSpPr>
        <p:spPr>
          <a:xfrm>
            <a:off x="560520" y="2409840"/>
            <a:ext cx="8678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БЕСПЕЧЕНИЕ ДОСТУПНОСТИ И КАЧЕСТВА ДОШКОЛЬНОГО ВОСПИТАНИЯ И ОБУЧЕНИЯ В ЦЕЛЯХ РЕАЛИЗАЦИИ ЦЕЛИ И ЗАДАЧ ГОСУДАРСТВЕННОЙ ПРОГРАММЫ РАЗВИТИЯ ОБРАЗОВАНИЯ И НАУКИ РЕСПУБЛИКИ КАЗАХСТАН НА 2020</a:t>
            </a:r>
            <a:r>
              <a:rPr b="1" lang="kk-KZ" sz="24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025 ГО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7" name="Прямоугольник 14"/>
          <p:cNvSpPr/>
          <p:nvPr/>
        </p:nvSpPr>
        <p:spPr>
          <a:xfrm>
            <a:off x="3624120" y="6273720"/>
            <a:ext cx="2594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entury Gothic"/>
              </a:rPr>
              <a:t>г. Нур-Султан, 2020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8" name="Picture 10" descr="C:\Users\Типография\Desktop\МОН РК.png"/>
          <p:cNvPicPr/>
          <p:nvPr/>
        </p:nvPicPr>
        <p:blipFill>
          <a:blip r:embed="rId1"/>
          <a:stretch/>
        </p:blipFill>
        <p:spPr>
          <a:xfrm>
            <a:off x="4330800" y="844560"/>
            <a:ext cx="1198440" cy="1200240"/>
          </a:xfrm>
          <a:prstGeom prst="rect">
            <a:avLst/>
          </a:prstGeom>
          <a:ln w="0">
            <a:noFill/>
          </a:ln>
        </p:spPr>
      </p:pic>
      <p:sp>
        <p:nvSpPr>
          <p:cNvPr id="1299" name="Прямоугольник 1"/>
          <p:cNvSpPr/>
          <p:nvPr/>
        </p:nvSpPr>
        <p:spPr>
          <a:xfrm>
            <a:off x="5345280" y="47671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Century Gothic"/>
              </a:rPr>
              <a:t>Андыбаева М.С.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Century Gothic"/>
              </a:rPr>
              <a:t>главный эксперт КДСО МОН РК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Прямоугольник 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01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  <p:sp>
        <p:nvSpPr>
          <p:cNvPr id="1302" name="Прямоугольник 8"/>
          <p:cNvSpPr/>
          <p:nvPr/>
        </p:nvSpPr>
        <p:spPr>
          <a:xfrm>
            <a:off x="1103400" y="287280"/>
            <a:ext cx="77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ГОСУДАРСТВЕНН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АЯ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ПРОГРАММ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А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РАЗВИТИЯ ОБРАЗОВАНИЯ И НАУКИ РЕСПУБЛИКИ КАЗАХСТАН НА 20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20 – 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20</a:t>
            </a: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25</a:t>
            </a:r>
            <a:r>
              <a:rPr b="1" lang="ru-RU" sz="1800" spc="-1" strike="noStrike">
                <a:solidFill>
                  <a:srgbClr val="2e75b6"/>
                </a:solidFill>
                <a:latin typeface="Segoe UI"/>
                <a:ea typeface="Segoe UI"/>
              </a:rPr>
              <a:t> ГО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Скругленный прямоугольник 1"/>
          <p:cNvSpPr/>
          <p:nvPr/>
        </p:nvSpPr>
        <p:spPr>
          <a:xfrm>
            <a:off x="844560" y="1085760"/>
            <a:ext cx="8148600" cy="112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Calibri"/>
              </a:rPr>
              <a:t>ЦЕЛЬ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75b6"/>
                </a:solidFill>
                <a:latin typeface="Calibri"/>
              </a:rPr>
              <a:t>Повышение глобальной конкурентоспособности казахстанского образования и науки, воспитание и обучение личности на основе общечеловеческих       ценност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Скругленный прямоугольник 2"/>
          <p:cNvSpPr/>
          <p:nvPr/>
        </p:nvSpPr>
        <p:spPr>
          <a:xfrm>
            <a:off x="844560" y="2362320"/>
            <a:ext cx="8148600" cy="419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. Обеспечить высокий статус профессии педагога, модернизировать педагогическое образовани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. Сократить разрыв в качестве образования между обучающимис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. Обеспечить безопасную и комфортную среду обучени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. Внедрить обновленную систему оценки качества обучающихся, педагогов и организаций образования на основе лучших практи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. Обеспечить преемственность и непрерывность обучения, профессиональной подготовки в соответствии с потребностями экономики и региональными особен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. Обеспечить интеллектуальное, духовно-нравственное и физическое развитие обучающих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. Оснастить организации образования цифровой инфраструктурой и современной материально-технической базой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117440" y="264600"/>
            <a:ext cx="8515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ЦЕЛЕВОЙ ИНДИКАТОР 1. </a:t>
            </a:r>
            <a:br>
              <a:rPr sz="2400"/>
            </a:b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ОХВАТ ДОШКОЛЬНЫМ ВОСПИТАНИЕМ </a:t>
            </a:r>
            <a:br>
              <a:rPr sz="2400"/>
            </a:br>
            <a:r>
              <a:rPr b="1" lang="ru-RU" sz="2400" spc="-1" strike="noStrike">
                <a:solidFill>
                  <a:srgbClr val="2e75b6"/>
                </a:solidFill>
                <a:latin typeface="Segoe UI"/>
                <a:ea typeface="Segoe UI"/>
              </a:rPr>
              <a:t>И ОБУЧЕНИЕМ ДЕТЕЙ (%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Прямоугольник 4"/>
          <p:cNvSpPr/>
          <p:nvPr/>
        </p:nvSpPr>
        <p:spPr>
          <a:xfrm>
            <a:off x="895320" y="2502000"/>
            <a:ext cx="29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 год – 8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1 год – 81,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2 год – 82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3 год – 83,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4 год – 84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5 год – 85,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т 3 до 6 л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-2025 годы  - 10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Прямоугольник 7"/>
          <p:cNvSpPr/>
          <p:nvPr/>
        </p:nvSpPr>
        <p:spPr>
          <a:xfrm>
            <a:off x="4568760" y="2793960"/>
            <a:ext cx="246240" cy="286560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Прямоугольник 11"/>
          <p:cNvSpPr/>
          <p:nvPr/>
        </p:nvSpPr>
        <p:spPr>
          <a:xfrm>
            <a:off x="5308560" y="2657520"/>
            <a:ext cx="246240" cy="300204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Прямоугольник 12"/>
          <p:cNvSpPr/>
          <p:nvPr/>
        </p:nvSpPr>
        <p:spPr>
          <a:xfrm>
            <a:off x="6060960" y="2492280"/>
            <a:ext cx="246240" cy="316728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Прямоугольник 13"/>
          <p:cNvSpPr/>
          <p:nvPr/>
        </p:nvSpPr>
        <p:spPr>
          <a:xfrm>
            <a:off x="6788160" y="2328840"/>
            <a:ext cx="244440" cy="333072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Прямоугольник 14"/>
          <p:cNvSpPr/>
          <p:nvPr/>
        </p:nvSpPr>
        <p:spPr>
          <a:xfrm>
            <a:off x="7512120" y="2165400"/>
            <a:ext cx="245880" cy="349416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Прямоугольник 15"/>
          <p:cNvSpPr/>
          <p:nvPr/>
        </p:nvSpPr>
        <p:spPr>
          <a:xfrm>
            <a:off x="8265960" y="2055960"/>
            <a:ext cx="244800" cy="3603600"/>
          </a:xfrm>
          <a:prstGeom prst="rect">
            <a:avLst/>
          </a:prstGeom>
          <a:solidFill>
            <a:srgbClr val="4f81bd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Прямоугольник 8"/>
          <p:cNvSpPr/>
          <p:nvPr/>
        </p:nvSpPr>
        <p:spPr>
          <a:xfrm>
            <a:off x="4339440" y="5659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Прямоугольник 17"/>
          <p:cNvSpPr/>
          <p:nvPr/>
        </p:nvSpPr>
        <p:spPr>
          <a:xfrm>
            <a:off x="5079240" y="564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Прямоугольник 18"/>
          <p:cNvSpPr/>
          <p:nvPr/>
        </p:nvSpPr>
        <p:spPr>
          <a:xfrm>
            <a:off x="5842800" y="564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Прямоугольник 19"/>
          <p:cNvSpPr/>
          <p:nvPr/>
        </p:nvSpPr>
        <p:spPr>
          <a:xfrm>
            <a:off x="6582600" y="5637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Прямоугольник 20"/>
          <p:cNvSpPr/>
          <p:nvPr/>
        </p:nvSpPr>
        <p:spPr>
          <a:xfrm>
            <a:off x="7306560" y="5637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Прямоугольник 21"/>
          <p:cNvSpPr/>
          <p:nvPr/>
        </p:nvSpPr>
        <p:spPr>
          <a:xfrm>
            <a:off x="8044560" y="5626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Прямоугольник 22"/>
          <p:cNvSpPr/>
          <p:nvPr/>
        </p:nvSpPr>
        <p:spPr>
          <a:xfrm>
            <a:off x="4466520" y="2413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Прямоугольник 23"/>
          <p:cNvSpPr/>
          <p:nvPr/>
        </p:nvSpPr>
        <p:spPr>
          <a:xfrm>
            <a:off x="5081040" y="225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1,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Прямоугольник 24"/>
          <p:cNvSpPr/>
          <p:nvPr/>
        </p:nvSpPr>
        <p:spPr>
          <a:xfrm>
            <a:off x="5846400" y="2128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2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Прямоугольник 25"/>
          <p:cNvSpPr/>
          <p:nvPr/>
        </p:nvSpPr>
        <p:spPr>
          <a:xfrm>
            <a:off x="6584400" y="1913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3,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Прямоугольник 26"/>
          <p:cNvSpPr/>
          <p:nvPr/>
        </p:nvSpPr>
        <p:spPr>
          <a:xfrm>
            <a:off x="7308360" y="1776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4,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Прямоугольник 27"/>
          <p:cNvSpPr/>
          <p:nvPr/>
        </p:nvSpPr>
        <p:spPr>
          <a:xfrm>
            <a:off x="8048160" y="1614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5,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5" name="Прямоугольник 2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26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Прямая соединительная линия 6"/>
          <p:cNvSpPr/>
          <p:nvPr/>
        </p:nvSpPr>
        <p:spPr>
          <a:xfrm>
            <a:off x="2228760" y="4408560"/>
            <a:ext cx="97020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Прямая соединительная линия 61"/>
          <p:cNvSpPr/>
          <p:nvPr/>
        </p:nvSpPr>
        <p:spPr>
          <a:xfrm>
            <a:off x="3198960" y="4408560"/>
            <a:ext cx="8492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Скругленный прямоугольник 30"/>
          <p:cNvSpPr/>
          <p:nvPr/>
        </p:nvSpPr>
        <p:spPr>
          <a:xfrm>
            <a:off x="3336840" y="1020600"/>
            <a:ext cx="3571920" cy="189252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19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х организаций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06 8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садов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84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дете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8 38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центров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876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детей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 4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0" name="Скругленный прямоугольник 31"/>
          <p:cNvSpPr/>
          <p:nvPr/>
        </p:nvSpPr>
        <p:spPr>
          <a:xfrm>
            <a:off x="841320" y="2519280"/>
            <a:ext cx="2746440" cy="175752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ДО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26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 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9 02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82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сад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7 99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44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центро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 02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TextBox 32"/>
          <p:cNvSpPr/>
          <p:nvPr/>
        </p:nvSpPr>
        <p:spPr>
          <a:xfrm>
            <a:off x="3083040" y="5448240"/>
            <a:ext cx="3652560" cy="890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6 лет - 78,7%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6 лет - 98,5%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лет – 42,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Прямая соединительная линия 33"/>
          <p:cNvSpPr/>
          <p:nvPr/>
        </p:nvSpPr>
        <p:spPr>
          <a:xfrm>
            <a:off x="4898880" y="4386240"/>
            <a:ext cx="8510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Прямая соединительная линия 34"/>
          <p:cNvSpPr/>
          <p:nvPr/>
        </p:nvSpPr>
        <p:spPr>
          <a:xfrm>
            <a:off x="4048200" y="4403880"/>
            <a:ext cx="85068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Прямая соединительная линия 35"/>
          <p:cNvSpPr/>
          <p:nvPr/>
        </p:nvSpPr>
        <p:spPr>
          <a:xfrm>
            <a:off x="5773680" y="4383000"/>
            <a:ext cx="85104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Прямая соединительная линия 36"/>
          <p:cNvSpPr/>
          <p:nvPr/>
        </p:nvSpPr>
        <p:spPr>
          <a:xfrm>
            <a:off x="6624720" y="4361040"/>
            <a:ext cx="850680" cy="0"/>
          </a:xfrm>
          <a:prstGeom prst="line">
            <a:avLst/>
          </a:prstGeom>
          <a:ln w="57240">
            <a:solidFill>
              <a:srgbClr val="a6a6a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Прямоугольник 3"/>
          <p:cNvSpPr/>
          <p:nvPr/>
        </p:nvSpPr>
        <p:spPr>
          <a:xfrm>
            <a:off x="478440" y="4883040"/>
            <a:ext cx="89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Segoe UI"/>
                <a:ea typeface="Segoe UI"/>
              </a:rPr>
              <a:t>ОХВАТ ДЕТЕЙ ДОШКОЛЬНЫМ ВОСПИТАНИЕМ И ОБУЧЕНИЕМ СОСТАВЛЯ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37" name="Picture 2" descr=""/>
          <p:cNvPicPr/>
          <p:nvPr/>
        </p:nvPicPr>
        <p:blipFill>
          <a:blip r:embed="rId1"/>
          <a:stretch/>
        </p:blipFill>
        <p:spPr>
          <a:xfrm>
            <a:off x="7292880" y="5235480"/>
            <a:ext cx="1062000" cy="119556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5" descr=""/>
          <p:cNvPicPr/>
          <p:nvPr/>
        </p:nvPicPr>
        <p:blipFill>
          <a:blip r:embed="rId2"/>
          <a:stretch/>
        </p:blipFill>
        <p:spPr>
          <a:xfrm>
            <a:off x="1590840" y="5275440"/>
            <a:ext cx="1179360" cy="1116000"/>
          </a:xfrm>
          <a:prstGeom prst="rect">
            <a:avLst/>
          </a:prstGeom>
          <a:ln w="0">
            <a:noFill/>
          </a:ln>
        </p:spPr>
      </p:pic>
      <p:sp>
        <p:nvSpPr>
          <p:cNvPr id="1339" name="Выгнутая вниз стрелка 8"/>
          <p:cNvSpPr/>
          <p:nvPr/>
        </p:nvSpPr>
        <p:spPr>
          <a:xfrm rot="9328800">
            <a:off x="2277360" y="1464480"/>
            <a:ext cx="987480" cy="731880"/>
          </a:xfrm>
          <a:custGeom>
            <a:avLst/>
            <a:gdLst>
              <a:gd name="textAreaLeft" fmla="*/ 178200 w 987480"/>
              <a:gd name="textAreaRight" fmla="*/ 717840 w 9874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99" hR="21600" stAng="10800000" swAng="-5400000"/>
                <a:lnTo>
                  <a:pt x="11801" y="21600"/>
                </a:lnTo>
                <a:arcTo wR="7799" hR="21600" stAng="5400000" swAng="-3265773"/>
                <a:lnTo>
                  <a:pt x="21352" y="5400"/>
                </a:lnTo>
                <a:lnTo>
                  <a:pt x="17598" y="0"/>
                </a:lnTo>
                <a:lnTo>
                  <a:pt x="13348" y="5400"/>
                </a:lnTo>
                <a:lnTo>
                  <a:pt x="15349" y="5400"/>
                </a:lnTo>
                <a:arcTo wR="7799" hR="21600" stAng="2134227" swAng="2937276"/>
                <a:lnTo>
                  <a:pt x="9800" y="20877"/>
                </a:lnTo>
                <a:arcTo wR="7799" hR="21600" stAng="5728497" swAng="5071503"/>
                <a:close/>
              </a:path>
              <a:path fill="darkenLess" w="21600" h="21600">
                <a:moveTo>
                  <a:pt x="0" y="0"/>
                </a:moveTo>
                <a:arcTo wR="7799" hR="21600" stAng="10800000" swAng="-5400000"/>
                <a:lnTo>
                  <a:pt x="11801" y="21600"/>
                </a:lnTo>
                <a:arcTo wR="7799" hR="21600" stAng="5400000" swAng="328497"/>
                <a:lnTo>
                  <a:pt x="9800" y="20877"/>
                </a:lnTo>
                <a:arcTo wR="7799" hR="21600" stAng="5728497" swAng="5071503"/>
                <a:close/>
              </a:path>
            </a:pathLst>
          </a:cu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Выгнутая вправо стрелка 9"/>
          <p:cNvSpPr/>
          <p:nvPr/>
        </p:nvSpPr>
        <p:spPr>
          <a:xfrm rot="18163800">
            <a:off x="7156440" y="1409400"/>
            <a:ext cx="731880" cy="988920"/>
          </a:xfrm>
          <a:custGeom>
            <a:avLst/>
            <a:gdLst>
              <a:gd name="textAreaLeft" fmla="*/ 97920 w 731880"/>
              <a:gd name="textAreaRight" fmla="*/ 633960 w 731880"/>
              <a:gd name="textAreaTop" fmla="*/ 178560 h 988920"/>
              <a:gd name="textAreaBottom" fmla="*/ 71892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03" stAng="-5400000" swAng="5400000"/>
                <a:lnTo>
                  <a:pt x="21600" y="11799"/>
                </a:lnTo>
                <a:arcTo wR="21600" hR="7803" stAng="0" swAng="3266711"/>
                <a:lnTo>
                  <a:pt x="5400" y="21352"/>
                </a:lnTo>
                <a:lnTo>
                  <a:pt x="0" y="17604"/>
                </a:lnTo>
                <a:lnTo>
                  <a:pt x="5400" y="13360"/>
                </a:lnTo>
                <a:lnTo>
                  <a:pt x="5400" y="15358"/>
                </a:lnTo>
                <a:arcTo wR="21600" hR="7803" stAng="3266711" swAng="-2938752"/>
                <a:lnTo>
                  <a:pt x="20880" y="9801"/>
                </a:lnTo>
                <a:arcTo wR="21600" hR="7803" stAng="-327960" swAng="-5072040"/>
                <a:close/>
              </a:path>
              <a:path fill="darkenLess" w="21600" h="21600">
                <a:moveTo>
                  <a:pt x="0" y="0"/>
                </a:moveTo>
                <a:arcTo wR="21600" hR="7803" stAng="-5400000" swAng="5400000"/>
                <a:lnTo>
                  <a:pt x="21600" y="11799"/>
                </a:lnTo>
                <a:arcTo wR="21600" hR="7803" stAng="0" swAng="-327960"/>
                <a:lnTo>
                  <a:pt x="20880" y="9801"/>
                </a:lnTo>
                <a:arcTo wR="21600" hR="7803" stAng="-327960" swAng="-5072040"/>
                <a:close/>
              </a:path>
            </a:pathLst>
          </a:cu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1" name="Прямоугольник 1"/>
          <p:cNvSpPr/>
          <p:nvPr/>
        </p:nvSpPr>
        <p:spPr>
          <a:xfrm>
            <a:off x="384120" y="331920"/>
            <a:ext cx="91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Segoe UI"/>
                <a:ea typeface="Segoe UI"/>
              </a:rPr>
              <a:t>В РЕСПУБЛИКЕ ФУНКЦИОНИР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Скругленный прямоугольник 52"/>
          <p:cNvSpPr/>
          <p:nvPr/>
        </p:nvSpPr>
        <p:spPr>
          <a:xfrm>
            <a:off x="6404040" y="2600280"/>
            <a:ext cx="2825640" cy="1650960"/>
          </a:xfrm>
          <a:prstGeom prst="roundRect">
            <a:avLst>
              <a:gd name="adj" fmla="val 636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х ДО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4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7 78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из них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 014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х детских садов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 3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ных мини-центр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их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 3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Прямоугольник 23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44" name="Рисунок 4" descr="Описание: Описание: Описание: F:\курсив.jpg"/>
          <p:cNvPicPr/>
          <p:nvPr/>
        </p:nvPicPr>
        <p:blipFill>
          <a:blip r:embed="rId3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Группа 3"/>
          <p:cNvGrpSpPr/>
          <p:nvPr/>
        </p:nvGrpSpPr>
        <p:grpSpPr>
          <a:xfrm>
            <a:off x="149400" y="1301760"/>
            <a:ext cx="1643040" cy="1460520"/>
            <a:chOff x="149400" y="1301760"/>
            <a:chExt cx="1643040" cy="1460520"/>
          </a:xfrm>
        </p:grpSpPr>
        <p:pic>
          <p:nvPicPr>
            <p:cNvPr id="1346" name="Рисунок 18" descr=""/>
            <p:cNvPicPr/>
            <p:nvPr/>
          </p:nvPicPr>
          <p:blipFill>
            <a:blip r:embed="rId1"/>
            <a:stretch/>
          </p:blipFill>
          <p:spPr>
            <a:xfrm>
              <a:off x="149400" y="1301760"/>
              <a:ext cx="164304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Прямоугольник 19"/>
            <p:cNvSpPr/>
            <p:nvPr/>
          </p:nvSpPr>
          <p:spPr>
            <a:xfrm>
              <a:off x="852840" y="1789200"/>
              <a:ext cx="2408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348" name="Рисунок 6" descr=""/>
          <p:cNvPicPr/>
          <p:nvPr/>
        </p:nvPicPr>
        <p:blipFill>
          <a:blip r:embed="rId2"/>
          <a:srcRect l="3598" t="70380" r="67132" b="2735"/>
          <a:stretch/>
        </p:blipFill>
        <p:spPr>
          <a:xfrm>
            <a:off x="200160" y="4154400"/>
            <a:ext cx="1557360" cy="1428840"/>
          </a:xfrm>
          <a:prstGeom prst="rect">
            <a:avLst/>
          </a:prstGeom>
          <a:ln w="0">
            <a:noFill/>
          </a:ln>
        </p:spPr>
      </p:pic>
      <p:sp>
        <p:nvSpPr>
          <p:cNvPr id="1349" name="Скругленный прямоугольник 21"/>
          <p:cNvSpPr/>
          <p:nvPr/>
        </p:nvSpPr>
        <p:spPr>
          <a:xfrm>
            <a:off x="2044800" y="790560"/>
            <a:ext cx="7497720" cy="625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4 тыс. (88,8%) частных ДО на 320 тыс.детей размещен госзака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Скругленный прямоугольник 22"/>
          <p:cNvSpPr/>
          <p:nvPr/>
        </p:nvSpPr>
        <p:spPr>
          <a:xfrm>
            <a:off x="2044800" y="3684600"/>
            <a:ext cx="7515000" cy="950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дошкольных организациях работаю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97 322 педагогов; из них с высшим образованием - 62 957 чел.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техническим и профессиональным образованием -- 31 849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Скругленный прямоугольник 23"/>
          <p:cNvSpPr/>
          <p:nvPr/>
        </p:nvSpPr>
        <p:spPr>
          <a:xfrm>
            <a:off x="2044800" y="1644480"/>
            <a:ext cx="7495920" cy="814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состоянию на 7 августа 2020 года около 125 тыс.детей или 28,1% получили направление в Д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Скругленный прямоугольник 24"/>
          <p:cNvSpPr/>
          <p:nvPr/>
        </p:nvSpPr>
        <p:spPr>
          <a:xfrm>
            <a:off x="2044800" y="2662200"/>
            <a:ext cx="7515000" cy="814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состоянию на май 2020 года в очереди стоя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коло 444 тыс.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Скругленный прямоугольник 25"/>
          <p:cNvSpPr/>
          <p:nvPr/>
        </p:nvSpPr>
        <p:spPr>
          <a:xfrm>
            <a:off x="2044800" y="4780080"/>
            <a:ext cx="7515000" cy="6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техническим и профессиональным образованием -- 31 849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4" name="Прямоугольник 7"/>
          <p:cNvSpPr/>
          <p:nvPr/>
        </p:nvSpPr>
        <p:spPr>
          <a:xfrm>
            <a:off x="2837520" y="2913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Скругленный прямоугольник 27"/>
          <p:cNvSpPr/>
          <p:nvPr/>
        </p:nvSpPr>
        <p:spPr>
          <a:xfrm>
            <a:off x="2044800" y="5680080"/>
            <a:ext cx="7515000" cy="59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 общим средним образованием - 2 516 ч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6" name="Рисунок 18" descr=""/>
          <p:cNvPicPr/>
          <p:nvPr/>
        </p:nvPicPr>
        <p:blipFill>
          <a:blip r:embed="rId3"/>
          <a:srcRect l="0" t="0" r="0" b="8714"/>
          <a:stretch/>
        </p:blipFill>
        <p:spPr>
          <a:xfrm>
            <a:off x="297000" y="2762280"/>
            <a:ext cx="1363680" cy="1244520"/>
          </a:xfrm>
          <a:prstGeom prst="rect">
            <a:avLst/>
          </a:prstGeom>
          <a:ln w="0">
            <a:noFill/>
          </a:ln>
        </p:spPr>
      </p:pic>
      <p:sp>
        <p:nvSpPr>
          <p:cNvPr id="1357" name="Прямоугольник 39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58" name="Рисунок 4" descr="Описание: Описание: Описание: F:\курсив.jpg"/>
          <p:cNvPicPr/>
          <p:nvPr/>
        </p:nvPicPr>
        <p:blipFill>
          <a:blip r:embed="rId4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362240" y="274320"/>
            <a:ext cx="73720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kk-KZ" sz="1800" spc="-1" strike="noStrike">
                <a:solidFill>
                  <a:srgbClr val="2e75b6"/>
                </a:solidFill>
                <a:latin typeface="Segoe UI"/>
                <a:ea typeface="Segoe UI"/>
              </a:rPr>
              <a:t>СОВЕРШЕНСТВОВАНИЕ НОРМАТИВНЫХ ПРАВОВЫХ АКТОВ СИСТЕМЫ ДОШКОЛЬНОГО ВОСПИТАНИЯ И ОБУЧЕНИЯ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Скругленный прямоугольник 1"/>
          <p:cNvSpPr/>
          <p:nvPr/>
        </p:nvSpPr>
        <p:spPr>
          <a:xfrm>
            <a:off x="1000080" y="1114560"/>
            <a:ext cx="7904160" cy="80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общеобязательный стандарт дошкольного воспитания и обучения (приказ МОН РК от 5 мая 2020 года № 18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Скругленный прямоугольник 6"/>
          <p:cNvSpPr/>
          <p:nvPr/>
        </p:nvSpPr>
        <p:spPr>
          <a:xfrm>
            <a:off x="1000080" y="2027160"/>
            <a:ext cx="7904160" cy="7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ые учебные планы дошкольного воспитания и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2 мая 2020 года № 195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Скругленный прямоугольник 7"/>
          <p:cNvSpPr/>
          <p:nvPr/>
        </p:nvSpPr>
        <p:spPr>
          <a:xfrm>
            <a:off x="1000080" y="3828960"/>
            <a:ext cx="7904160" cy="798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ая учебная программа дошкольного воспитания и обуч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 6 марта 2020 года № 9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Скругленный прямоугольник 8"/>
          <p:cNvSpPr/>
          <p:nvPr/>
        </p:nvSpPr>
        <p:spPr>
          <a:xfrm>
            <a:off x="1000080" y="2887560"/>
            <a:ext cx="790416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ые правила деятельности дошкольных организац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8 мая 2020 года № 207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Скругленный прямоугольник 9"/>
          <p:cNvSpPr/>
          <p:nvPr/>
        </p:nvSpPr>
        <p:spPr>
          <a:xfrm>
            <a:off x="1000080" y="4727520"/>
            <a:ext cx="7904160" cy="905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иповой договор оказания образовательных услуг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дошкольных организац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приказ МОН РК от 15 апреля 2020 года № 143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Скругленный прямоугольник 10"/>
          <p:cNvSpPr/>
          <p:nvPr/>
        </p:nvSpPr>
        <p:spPr>
          <a:xfrm>
            <a:off x="1000080" y="5742000"/>
            <a:ext cx="7904160" cy="766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ила оказания государственных услуг в сфере дошкольного образования (приказ МОН РК от 19 июня 2020 года № 25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Прямоугольник 14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7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Прямоугольник 24"/>
          <p:cNvSpPr/>
          <p:nvPr/>
        </p:nvSpPr>
        <p:spPr>
          <a:xfrm>
            <a:off x="1109520" y="156852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Прямоугольник 1"/>
          <p:cNvSpPr/>
          <p:nvPr/>
        </p:nvSpPr>
        <p:spPr>
          <a:xfrm>
            <a:off x="3267360" y="33984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Segoe UI"/>
                <a:ea typeface="Segoe UI"/>
              </a:rPr>
              <a:t>РАЗРАБОТА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Скругленный прямоугольник 2"/>
          <p:cNvSpPr/>
          <p:nvPr/>
        </p:nvSpPr>
        <p:spPr>
          <a:xfrm>
            <a:off x="1173240" y="1476360"/>
            <a:ext cx="7667640" cy="197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тодические рекомендации «Введение института домашних воспитателей (социальных нянь), в том числе в штатных расписаниях дошкольных организаций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Скругленный прямоугольник 7"/>
          <p:cNvSpPr/>
          <p:nvPr/>
        </p:nvSpPr>
        <p:spPr>
          <a:xfrm>
            <a:off x="1201680" y="3886200"/>
            <a:ext cx="7667640" cy="20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комендации по созданию групп кратковременного пребывания при дошкольных организациях для обучения и воспитания детей 1-2 лет из малообеспеченных и многодетных семей, семей, воспитывающих детей-инвалид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Прямоугольник 10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73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Прямоугольник 24"/>
          <p:cNvSpPr/>
          <p:nvPr/>
        </p:nvSpPr>
        <p:spPr>
          <a:xfrm>
            <a:off x="808200" y="221472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Segoe UI"/>
                <a:ea typeface="Segoe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Прямоугольник 1"/>
          <p:cNvSpPr/>
          <p:nvPr/>
        </p:nvSpPr>
        <p:spPr>
          <a:xfrm>
            <a:off x="2942640" y="68724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Segoe UI"/>
                <a:ea typeface="Segoe UI"/>
              </a:rPr>
              <a:t>ЗАПЛАНИРОВА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Скругленный прямоугольник 2"/>
          <p:cNvSpPr/>
          <p:nvPr/>
        </p:nvSpPr>
        <p:spPr>
          <a:xfrm>
            <a:off x="1393920" y="1716120"/>
            <a:ext cx="7134120" cy="13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ВЕДЕНИЕ ИНСТИТУТА ДОМАШНИХ ВОСПИТАТЕЛЕЙ (СОЦИАЛЬНЫХ НЯН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Скругленный прямоугольник 7"/>
          <p:cNvSpPr/>
          <p:nvPr/>
        </p:nvSpPr>
        <p:spPr>
          <a:xfrm>
            <a:off x="1389240" y="3260880"/>
            <a:ext cx="7134120" cy="1112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НЕДРЕНИЕ ЛИЦЕНЗИРОВАНИЯ ДОШКОЛЬНЫХ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8" name="Скругленный прямоугольник 8"/>
          <p:cNvSpPr/>
          <p:nvPr/>
        </p:nvSpPr>
        <p:spPr>
          <a:xfrm>
            <a:off x="1401840" y="4600440"/>
            <a:ext cx="7134120" cy="132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РАБОТКА И ВНЕДРЕНИЕ РЕЙТИНГА ОЦЕНКИ ДОШКОЛЬНЫХ ОРГАНИЗАЦИЙ С ВКЛЮЧЕНИЕ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ЕГО РОДИТЕЛЬСКОЙ ОЦЕН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Прямоугольник 11"/>
          <p:cNvSpPr/>
          <p:nvPr/>
        </p:nvSpPr>
        <p:spPr>
          <a:xfrm>
            <a:off x="0" y="287280"/>
            <a:ext cx="1198440" cy="646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80" name="Рисунок 4" descr="Описание: Описание: Описание: F:\курсив.jpg"/>
          <p:cNvPicPr/>
          <p:nvPr/>
        </p:nvPicPr>
        <p:blipFill>
          <a:blip r:embed="rId1"/>
          <a:srcRect l="4388" t="0" r="10912" b="0"/>
          <a:stretch/>
        </p:blipFill>
        <p:spPr>
          <a:xfrm>
            <a:off x="291960" y="338040"/>
            <a:ext cx="85896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8:49:26Z</dcterms:created>
  <dc:creator>Arman Kalibekuly</dc:creator>
  <dc:description/>
  <dc:language>en-US</dc:language>
  <cp:lastModifiedBy>алма</cp:lastModifiedBy>
  <cp:lastPrinted>2019-08-19T08:28:58Z</cp:lastPrinted>
  <dcterms:modified xsi:type="dcterms:W3CDTF">2020-08-13T06:15:33Z</dcterms:modified>
  <cp:revision>550</cp:revision>
  <dc:subject/>
  <dc:title>Республиканский  учебно-методический центр дополнительного образования</dc:title>
</cp:coreProperties>
</file>